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F2A-3F16-497F-94BD-CDDBDF18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171-BB70-4F97-89D4-3FC80E29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6CF-F381-4549-A07A-44BA35EA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AACB-F36D-4BF9-9064-1343821D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BCB-E6B0-4D90-9508-5E47E061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201-E735-4F52-B293-7740D81F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3BF-9239-4010-938E-460DF314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048-A1CF-428C-A431-1271744D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6E26-E130-47FC-AF2F-AA7B2F0A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4A49-0518-40AE-9C96-1BF3475E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EFC-7A5D-479D-9002-0D46184D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EABD-FD9F-487F-A288-082D6C2A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BE3E-359A-41A0-82C3-955558743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7 Otcovia dávni vedel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tcovia dávni vede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 Božiu pravdu trpieť, mrie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Ich viery slávna ozvena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chc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aj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nás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cestou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pásy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vies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viera otcov, svieť a ve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s jasným svetl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 c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vpred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tváre smrti hľade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žalároch mreli stýra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o vierou zreli spásy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 blízkom snili svita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viera otcov, svieť a ve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s jasným svetl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 c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vpred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, viera otcov, vzácny skvos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ásy zvesť hlásať pomáh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lebiť chceme Božiu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vedectvu nášmu moci d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viera otcov, svieť a ve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s jasným svetl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 c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vpre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6:27:26Z</dcterms:modified>
  <cp:revision>23</cp:revision>
  <dc:subject/>
  <dc:title>Je veľký náš Pán, on slávy je Kráľ Nech do všetkých strán  spev vrúcnych znie chvál.</dc:title>
</cp:coreProperties>
</file>